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50.jpeg" ContentType="image/jpeg"/>
  <Override PartName="/ppt/media/image52.png" ContentType="image/png"/>
  <Override PartName="/ppt/media/image24.jpeg" ContentType="image/jpeg"/>
  <Override PartName="/ppt/media/image22.wmf" ContentType="image/x-wmf"/>
  <Override PartName="/ppt/media/image19.png" ContentType="image/png"/>
  <Override PartName="/ppt/media/image21.wmf" ContentType="image/x-wmf"/>
  <Override PartName="/ppt/media/image26.jpeg" ContentType="image/jpeg"/>
  <Override PartName="/ppt/media/image20.wmf" ContentType="image/x-wmf"/>
  <Override PartName="/ppt/media/image32.jpeg" ContentType="image/jpeg"/>
  <Override PartName="/ppt/media/image18.wmf" ContentType="image/x-wmf"/>
  <Override PartName="/ppt/media/image2.jpeg" ContentType="image/jpeg"/>
  <Override PartName="/ppt/media/image36.jpeg" ContentType="image/jpeg"/>
  <Override PartName="/ppt/media/image57.png" ContentType="image/png"/>
  <Override PartName="/ppt/media/image16.wmf" ContentType="image/x-wmf"/>
  <Override PartName="/ppt/media/image45.jpeg" ContentType="image/jpeg"/>
  <Override PartName="/ppt/media/image55.png" ContentType="image/png"/>
  <Override PartName="/ppt/media/image15.jpeg" ContentType="image/jpeg"/>
  <Override PartName="/ppt/media/image29.png" ContentType="image/png"/>
  <Override PartName="/ppt/media/image6.gif" ContentType="image/gif"/>
  <Override PartName="/ppt/media/image14.wmf" ContentType="image/x-wmf"/>
  <Override PartName="/ppt/media/image53.png" ContentType="image/png"/>
  <Override PartName="/ppt/media/image1.png" ContentType="image/png"/>
  <Override PartName="/ppt/media/image23.jpeg" ContentType="image/jpeg"/>
  <Override PartName="/ppt/media/image5.png" ContentType="image/png"/>
  <Override PartName="/ppt/media/image43.jpeg" ContentType="image/jpeg"/>
  <Override PartName="/ppt/media/image17.wmf" ContentType="image/x-wmf"/>
  <Override PartName="/ppt/media/image56.png" ContentType="image/png"/>
  <Override PartName="/ppt/media/image34.png" ContentType="image/png"/>
  <Override PartName="/ppt/media/image44.jpeg" ContentType="image/jpeg"/>
  <Override PartName="/ppt/media/image35.wmf" ContentType="image/x-wmf"/>
  <Override PartName="/ppt/media/image38.png" ContentType="image/png"/>
  <Override PartName="/ppt/media/LATIGO.WAV" ContentType="audio/x-wav"/>
  <Override PartName="/ppt/media/image39.png" ContentType="image/png"/>
  <Override PartName="/ppt/media/image42.jpeg" ContentType="image/jpeg"/>
  <Override PartName="/ppt/media/image46.jpeg" ContentType="image/jpeg"/>
  <Override PartName="/ppt/media/image54.png" ContentType="image/png"/>
  <Override PartName="/ppt/media/image47.jpeg" ContentType="image/jpeg"/>
  <Override PartName="/ppt/media/image51.png" ContentType="image/png"/>
  <Override PartName="/ppt/media/image12.wmf" ContentType="image/x-wmf"/>
  <Override PartName="/ppt/media/image48.jpeg" ContentType="image/jpeg"/>
  <Override PartName="/ppt/media/image49.jpeg" ContentType="image/jpeg"/>
  <Override PartName="/ppt/media/image37.wmf" ContentType="image/x-wmf"/>
  <Override PartName="/ppt/media/image7.wmf" ContentType="image/x-wmf"/>
  <Override PartName="/ppt/media/image30.png" ContentType="image/png"/>
  <Override PartName="/ppt/media/image11.wmf" ContentType="image/x-wmf"/>
  <Override PartName="/ppt/media/image3.png" ContentType="image/png"/>
  <Override PartName="/ppt/media/image33.png" ContentType="image/png"/>
  <Override PartName="/ppt/media/image31.jpeg" ContentType="image/jpeg"/>
  <Override PartName="/ppt/media/image10.wmf" ContentType="image/x-wmf"/>
  <Override PartName="/ppt/media/image25.jpeg" ContentType="image/jpeg"/>
  <Override PartName="/ppt/media/image40.png" ContentType="image/png"/>
  <Override PartName="/ppt/media/image4.jpeg" ContentType="image/jpeg"/>
  <Override PartName="/ppt/media/image8.wmf" ContentType="image/x-wmf"/>
  <Override PartName="/ppt/media/image13.png" ContentType="image/png"/>
  <Override PartName="/ppt/media/image9.wmf" ContentType="image/x-wmf"/>
  <Override PartName="/ppt/media/image41.png" ContentType="image/png"/>
  <Override PartName="/ppt/media/wind.wav" ContentType="audio/x-wav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3ECA-A207-44A5-967E-D2D95719D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9ECC-43C9-4EDC-8DD2-1BE2C4951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A42C-0541-4216-AF2F-4597DDA47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21C4-8968-450E-B673-676E9F91B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B8A88-4019-48C2-8FAD-164C6CA65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C4086-AC88-4588-9EDC-580A08DAA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3DD9A-A76D-48B2-B857-C1CECD0CA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9D960-3A0F-4922-9B85-099A75EBC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A76FF-03BA-46D9-B389-93F6866F5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DEB00-6B42-4B22-91A9-A1A7A0D60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C47BA-57FC-48AE-843E-717F6A3E0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31C1-FC0F-417E-B2AC-2986FD22C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D802A-04C1-4062-8C2E-6F60C0C47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2E7DD-3EF8-4573-B598-CBA1A398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843F5-855B-4A11-8063-6ED0E8771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55A39-F7FB-4ADB-9A59-D5B2ADCA3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E79B6-A6A6-45EF-B58B-EB122351B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3521-FA9B-4D9F-8D9E-DCD0D21E2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1116-D00B-4E13-8F6E-1D014B401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7D0A-69F5-495E-A46C-6A886B8D6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1887-47A3-41DD-B13F-85188EC42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7B59-9CF4-4934-BF5B-C05F93035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D5E6-FD46-45EC-8DDD-D6F68DFE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F74B-6DEB-45ED-B42E-C18680CE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BEBBD-C82D-4F19-A030-DFB74A4B8A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75030-6F8A-4F84-9B1A-8B3BC84A3D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4.jpeg"/><Relationship Id="rId7" Type="http://schemas.openxmlformats.org/officeDocument/2006/relationships/image" Target="../media/image28.jpe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png"/><Relationship Id="rId6" Type="http://schemas.openxmlformats.org/officeDocument/2006/relationships/image" Target="../media/image1.png"/><Relationship Id="rId7" Type="http://schemas.openxmlformats.org/officeDocument/2006/relationships/image" Target="../media/image34.png"/><Relationship Id="rId8" Type="http://schemas.openxmlformats.org/officeDocument/2006/relationships/image" Target="../media/image35.wmf"/><Relationship Id="rId9" Type="http://schemas.openxmlformats.org/officeDocument/2006/relationships/image" Target="../media/image36.jpeg"/><Relationship Id="rId10" Type="http://schemas.openxmlformats.org/officeDocument/2006/relationships/image" Target="../media/image37.wmf"/><Relationship Id="rId11" Type="http://schemas.openxmlformats.org/officeDocument/2006/relationships/image" Target="../media/image38.png"/><Relationship Id="rId1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33.png"/><Relationship Id="rId3" Type="http://schemas.openxmlformats.org/officeDocument/2006/relationships/image" Target="../media/image41.png"/><Relationship Id="rId4" Type="http://schemas.openxmlformats.org/officeDocument/2006/relationships/image" Target="../media/image31.jpeg"/><Relationship Id="rId5" Type="http://schemas.openxmlformats.org/officeDocument/2006/relationships/image" Target="../media/image1.png"/><Relationship Id="rId6" Type="http://schemas.openxmlformats.org/officeDocument/2006/relationships/audio" Target="../media/wind.wav"/><Relationship Id="rId7" Type="http://schemas.openxmlformats.org/officeDocument/2006/relationships/audio" Target="../media/LATIGO.WAV"/><Relationship Id="rId8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image" Target="../media/image56.png"/><Relationship Id="rId7" Type="http://schemas.openxmlformats.org/officeDocument/2006/relationships/image" Target="../media/image57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image" Target="../media/image12.wmf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.pn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14.wmf"/><Relationship Id="rId1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9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2200320" cy="13716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6303960" y="476280"/>
            <a:ext cx="2552760" cy="34513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900000" y="2522520"/>
            <a:ext cx="794412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ERTIFICACIONES DE CALIDAD</a:t>
            </a:r>
            <a:endParaRPr b="0" lang="en-US" sz="5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"/>
          <p:cNvSpPr/>
          <p:nvPr/>
        </p:nvSpPr>
        <p:spPr>
          <a:xfrm>
            <a:off x="3059280" y="5805360"/>
            <a:ext cx="5760720" cy="648000"/>
          </a:xfrm>
          <a:prstGeom prst="rect">
            <a:avLst/>
          </a:prstGeom>
          <a:solidFill>
            <a:srgbClr val="00cccc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0000"/>
                </a:solidFill>
                <a:latin typeface="Bookman Old Style"/>
              </a:rPr>
              <a:t>Carlos Romero Góngo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0000"/>
                </a:solidFill>
                <a:latin typeface="Bookman Old Style"/>
              </a:rPr>
              <a:t>Superintendente Corporativo de Cal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5"/>
          <a:stretch/>
        </p:blipFill>
        <p:spPr>
          <a:xfrm>
            <a:off x="539640" y="3679920"/>
            <a:ext cx="2727360" cy="1981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2" name=""/>
          <p:cNvSpPr txBox="1"/>
          <p:nvPr/>
        </p:nvSpPr>
        <p:spPr>
          <a:xfrm>
            <a:off x="3527280" y="3675240"/>
            <a:ext cx="4429440" cy="82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EN LA INDUSTRIA</a:t>
            </a:r>
            <a:endParaRPr b="0" lang="en-US" sz="54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6012000" y="2232000"/>
            <a:ext cx="2633400" cy="27097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2820960" y="115920"/>
            <a:ext cx="5783400" cy="20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ffff"/>
                </a:solidFill>
                <a:latin typeface="Arial Black"/>
              </a:rPr>
              <a:t>¿COMO PERFECCIONAR LOS PROCESOS DE LA EMPRESA</a:t>
            </a:r>
            <a:r>
              <a:rPr b="0" i="1" lang="es-ES" sz="3200" spc="-1" strike="noStrike">
                <a:solidFill>
                  <a:srgbClr val="00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06400" y="3206880"/>
            <a:ext cx="6357960" cy="23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¿</a:t>
            </a: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BENCHMARKING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¿REINGENIERIA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¿MEJORAMIENTO CONTINU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¿KAIZEN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¿INNOVACION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¿CERTIFICACION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1296720" cy="80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2641680" cy="1981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3132000" y="1916280"/>
            <a:ext cx="2641680" cy="198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250920" y="2349360"/>
            <a:ext cx="2908080" cy="1981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5" name="" descr=""/>
          <p:cNvPicPr/>
          <p:nvPr/>
        </p:nvPicPr>
        <p:blipFill>
          <a:blip r:embed="rId4"/>
          <a:stretch/>
        </p:blipFill>
        <p:spPr>
          <a:xfrm>
            <a:off x="5148360" y="3360600"/>
            <a:ext cx="2881080" cy="2156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6" name="" descr=""/>
          <p:cNvPicPr/>
          <p:nvPr/>
        </p:nvPicPr>
        <p:blipFill>
          <a:blip r:embed="rId5"/>
          <a:stretch/>
        </p:blipFill>
        <p:spPr>
          <a:xfrm>
            <a:off x="7093080" y="4987800"/>
            <a:ext cx="2016000" cy="1465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7" name="" descr=""/>
          <p:cNvPicPr/>
          <p:nvPr/>
        </p:nvPicPr>
        <p:blipFill>
          <a:blip r:embed="rId6"/>
          <a:stretch/>
        </p:blipFill>
        <p:spPr>
          <a:xfrm>
            <a:off x="3798720" y="5146560"/>
            <a:ext cx="1997280" cy="1451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8" name="" descr=""/>
          <p:cNvPicPr/>
          <p:nvPr/>
        </p:nvPicPr>
        <p:blipFill>
          <a:blip r:embed="rId7"/>
          <a:stretch/>
        </p:blipFill>
        <p:spPr>
          <a:xfrm>
            <a:off x="5673600" y="5468760"/>
            <a:ext cx="1851120" cy="1344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9" name="" descr=""/>
          <p:cNvPicPr/>
          <p:nvPr/>
        </p:nvPicPr>
        <p:blipFill>
          <a:blip r:embed="rId8"/>
          <a:stretch/>
        </p:blipFill>
        <p:spPr>
          <a:xfrm>
            <a:off x="6620040" y="189000"/>
            <a:ext cx="2199960" cy="13716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324000" y="3716280"/>
            <a:ext cx="3816360" cy="257184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Comic Sans MS"/>
              </a:rPr>
              <a:t>En AUSTRAL l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Comic Sans MS"/>
              </a:rPr>
              <a:t>Calidad Certific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Comic Sans MS"/>
              </a:rPr>
              <a:t>es el pasaporte par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Comic Sans MS"/>
              </a:rPr>
              <a:t>ingresar a los merc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Comic Sans MS"/>
              </a:rPr>
              <a:t>más exigentes</a:t>
            </a:r>
            <a:r>
              <a:rPr b="1" i="1" lang="es-MX" sz="24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8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8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8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1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1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1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41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16000" y="227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7585200" y="1123920"/>
            <a:ext cx="836640" cy="1081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5940360" y="1133640"/>
            <a:ext cx="1152720" cy="1143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3419640" y="1197000"/>
            <a:ext cx="1944360" cy="9684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>
            <a:off x="250920" y="2492280"/>
            <a:ext cx="1800000" cy="10098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47" name="" descr=""/>
          <p:cNvPicPr/>
          <p:nvPr/>
        </p:nvPicPr>
        <p:blipFill>
          <a:blip r:embed="rId5"/>
          <a:stretch/>
        </p:blipFill>
        <p:spPr>
          <a:xfrm>
            <a:off x="2700360" y="3141720"/>
            <a:ext cx="2592360" cy="10015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48" name="" descr=""/>
          <p:cNvPicPr/>
          <p:nvPr/>
        </p:nvPicPr>
        <p:blipFill>
          <a:blip r:embed="rId6"/>
          <a:stretch/>
        </p:blipFill>
        <p:spPr>
          <a:xfrm>
            <a:off x="144360" y="115920"/>
            <a:ext cx="1403280" cy="8748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5292720" y="3141720"/>
            <a:ext cx="1224000" cy="1008000"/>
          </a:xfrm>
          <a:prstGeom prst="rect">
            <a:avLst/>
          </a:prstGeom>
          <a:solidFill>
            <a:srgbClr val="00cccc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95600" y="3284640"/>
            <a:ext cx="114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ISO 900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ISO 1400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ISO 1901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26920" y="5322960"/>
            <a:ext cx="1297080" cy="914400"/>
          </a:xfrm>
          <a:custGeom>
            <a:avLst/>
            <a:gdLst>
              <a:gd name="textAreaLeft" fmla="*/ 295920 w 1297080"/>
              <a:gd name="textAreaRight" fmla="*/ 1001160 w 12970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cccc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ntigoni Med"/>
              </a:rPr>
              <a:t>SQF 1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122560" y="5300640"/>
            <a:ext cx="1297080" cy="914400"/>
          </a:xfrm>
          <a:custGeom>
            <a:avLst/>
            <a:gdLst>
              <a:gd name="textAreaLeft" fmla="*/ 295920 w 1297080"/>
              <a:gd name="textAreaRight" fmla="*/ 1001160 w 12970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ntigoni Med"/>
              </a:rPr>
              <a:t>SQF 2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419640" y="5300640"/>
            <a:ext cx="1296720" cy="914400"/>
          </a:xfrm>
          <a:custGeom>
            <a:avLst/>
            <a:gdLst>
              <a:gd name="textAreaLeft" fmla="*/ 295920 w 1296720"/>
              <a:gd name="textAreaRight" fmla="*/ 1000800 w 12967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ntigoni Med"/>
              </a:rPr>
              <a:t>GMP.1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716360" y="5300640"/>
            <a:ext cx="1297080" cy="914400"/>
          </a:xfrm>
          <a:custGeom>
            <a:avLst/>
            <a:gdLst>
              <a:gd name="textAreaLeft" fmla="*/ 295920 w 1297080"/>
              <a:gd name="textAreaRight" fmla="*/ 1001160 w 12970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99ff"/>
          </a:solidFill>
          <a:ln w="76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ntigoni Med"/>
              </a:rPr>
              <a:t>OSH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ntigoni Med"/>
              </a:rPr>
              <a:t>180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12000" y="5300640"/>
            <a:ext cx="1296720" cy="914400"/>
          </a:xfrm>
          <a:custGeom>
            <a:avLst/>
            <a:gdLst>
              <a:gd name="textAreaLeft" fmla="*/ 295920 w 1296720"/>
              <a:gd name="textAreaRight" fmla="*/ 1000800 w 12967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ntigoni Med"/>
              </a:rPr>
              <a:t>SA8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307280" y="5300640"/>
            <a:ext cx="1297080" cy="914400"/>
          </a:xfrm>
          <a:custGeom>
            <a:avLst/>
            <a:gdLst>
              <a:gd name="textAreaLeft" fmla="*/ 295920 w 1297080"/>
              <a:gd name="textAreaRight" fmla="*/ 1001160 w 12970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3c905c"/>
              </a:gs>
              <a:gs pos="100000">
                <a:srgbClr val="00fff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ntigoni Med"/>
              </a:rPr>
              <a:t>BS86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979640" y="115920"/>
            <a:ext cx="7164360" cy="72072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Arial"/>
              </a:rPr>
              <a:t>ALGUNAS CERTIFICACIONES INTERNACION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ff0000"/>
                </a:solidFill>
                <a:latin typeface="Arial"/>
              </a:rPr>
              <a:t>DE RECONOCIDO PRESTIG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7"/>
          <a:stretch/>
        </p:blipFill>
        <p:spPr>
          <a:xfrm>
            <a:off x="7237440" y="2565360"/>
            <a:ext cx="1727280" cy="103968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8"/>
          <a:stretch/>
        </p:blipFill>
        <p:spPr>
          <a:xfrm>
            <a:off x="209520" y="3651120"/>
            <a:ext cx="1914480" cy="9558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9"/>
          <a:stretch/>
        </p:blipFill>
        <p:spPr>
          <a:xfrm>
            <a:off x="324000" y="1260360"/>
            <a:ext cx="1871640" cy="101916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2340000" y="1557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435640" y="1557360"/>
            <a:ext cx="4730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122960" y="1557360"/>
            <a:ext cx="47340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691320" y="3014640"/>
            <a:ext cx="4730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124000" y="3087720"/>
            <a:ext cx="4730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24000" y="3645000"/>
            <a:ext cx="4730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0"/>
          <a:stretch/>
        </p:blipFill>
        <p:spPr>
          <a:xfrm>
            <a:off x="7236000" y="3716280"/>
            <a:ext cx="936360" cy="108108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11"/>
          <a:stretch/>
        </p:blipFill>
        <p:spPr>
          <a:xfrm>
            <a:off x="8245440" y="3716280"/>
            <a:ext cx="760320" cy="10080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6659640" y="3807000"/>
            <a:ext cx="4730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7093080" y="2997360"/>
            <a:ext cx="1800000" cy="1066680"/>
          </a:xfrm>
          <a:prstGeom prst="rect">
            <a:avLst/>
          </a:prstGeom>
          <a:solidFill>
            <a:srgbClr val="ffff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1800360" y="3500280"/>
            <a:ext cx="5364000" cy="0"/>
          </a:xfrm>
          <a:prstGeom prst="line">
            <a:avLst/>
          </a:prstGeom>
          <a:ln w="76320">
            <a:solidFill>
              <a:srgbClr val="e61202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437080" y="2565360"/>
            <a:ext cx="503280" cy="846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14880" y="2492280"/>
            <a:ext cx="609480" cy="990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619280" y="2349360"/>
            <a:ext cx="666720" cy="1133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5364000" y="3499920"/>
            <a:ext cx="1079640" cy="1729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3530520" y="3499920"/>
            <a:ext cx="1185840" cy="1729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1476360" y="3573360"/>
            <a:ext cx="1224000" cy="1656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07960" y="333360"/>
            <a:ext cx="777240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ffff"/>
                </a:solidFill>
                <a:latin typeface="Arial Black"/>
              </a:rPr>
              <a:t>INTEGRANDO SISTEMAS DE CALIDAD CERTIFICADOS. RELACION CAUSA - EFECTO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556000" y="5299200"/>
            <a:ext cx="1769760" cy="1082520"/>
          </a:xfrm>
          <a:prstGeom prst="ellipse">
            <a:avLst/>
          </a:prstGeom>
          <a:gradFill rotWithShape="0">
            <a:gsLst>
              <a:gs pos="0">
                <a:srgbClr val="007575"/>
              </a:gs>
              <a:gs pos="100000">
                <a:srgbClr val="00ffff"/>
              </a:gs>
            </a:gsLst>
            <a:lin ang="5400000"/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ntigoniBd"/>
              </a:rPr>
              <a:t>F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476360" y="2852640"/>
            <a:ext cx="51832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ERTIFICADOS DE CALIDAD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95280" y="1463760"/>
            <a:ext cx="1895400" cy="957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4572000" y="5300640"/>
            <a:ext cx="2095560" cy="1008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86" name="" descr=""/>
          <p:cNvPicPr/>
          <p:nvPr/>
        </p:nvPicPr>
        <p:blipFill>
          <a:blip r:embed="rId3"/>
          <a:stretch/>
        </p:blipFill>
        <p:spPr>
          <a:xfrm>
            <a:off x="179280" y="5300640"/>
            <a:ext cx="2181240" cy="936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87" name="" descr=""/>
          <p:cNvPicPr/>
          <p:nvPr/>
        </p:nvPicPr>
        <p:blipFill>
          <a:blip r:embed="rId4"/>
          <a:stretch/>
        </p:blipFill>
        <p:spPr>
          <a:xfrm>
            <a:off x="2484360" y="1430280"/>
            <a:ext cx="1990800" cy="99072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288" name="" descr=""/>
          <p:cNvPicPr/>
          <p:nvPr/>
        </p:nvPicPr>
        <p:blipFill>
          <a:blip r:embed="rId5"/>
          <a:stretch/>
        </p:blipFill>
        <p:spPr>
          <a:xfrm>
            <a:off x="144360" y="115920"/>
            <a:ext cx="1258920" cy="78408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826920" y="5950080"/>
            <a:ext cx="863640" cy="21420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eam MT"/>
              </a:rPr>
              <a:t>HACC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012080" y="321300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ntigoni"/>
              </a:rPr>
              <a:t>LIDERAZG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716360" y="1413000"/>
            <a:ext cx="1727280" cy="1008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ccffcc"/>
              </a:gs>
              <a:gs pos="100000">
                <a:srgbClr val="3333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ntigoni Med"/>
              </a:rPr>
              <a:t>ASDA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ntigoni Med"/>
              </a:rPr>
              <a:t>GEOR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hecker dir="vert"/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1979640" y="0"/>
            <a:ext cx="7128000" cy="666900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5867280" y="4172040"/>
            <a:ext cx="2752920" cy="20653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3"/>
          <a:stretch/>
        </p:blipFill>
        <p:spPr>
          <a:xfrm>
            <a:off x="539640" y="4730760"/>
            <a:ext cx="4248360" cy="1938240"/>
          </a:xfrm>
          <a:prstGeom prst="rect">
            <a:avLst/>
          </a:prstGeom>
          <a:ln w="9360">
            <a:solidFill>
              <a:srgbClr val="000000"/>
            </a:solidFill>
            <a:prstDash val="lgDash"/>
            <a:miter/>
          </a:ln>
        </p:spPr>
      </p:pic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4932360" y="907920"/>
            <a:ext cx="3263760" cy="1822680"/>
          </a:xfrm>
          <a:prstGeom prst="rect">
            <a:avLst/>
          </a:prstGeom>
          <a:ln w="9360">
            <a:solidFill>
              <a:srgbClr val="000000"/>
            </a:solidFill>
            <a:prstDash val="sysDot"/>
            <a:miter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826920" y="1413000"/>
            <a:ext cx="1729080" cy="17287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298" name=""/>
          <p:cNvSpPr txBox="1"/>
          <p:nvPr/>
        </p:nvSpPr>
        <p:spPr>
          <a:xfrm>
            <a:off x="826920" y="2924280"/>
            <a:ext cx="489744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ISO 1400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99" name=""/>
          <p:cNvSpPr/>
          <p:nvPr/>
        </p:nvSpPr>
        <p:spPr>
          <a:xfrm>
            <a:off x="61596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Arial Black"/>
              </a:rPr>
              <a:t>SISTEMA DE GESTION AMBIENTA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0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768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8" dur="768" fill="hold"/>
                                        <p:tgtEl>
                                          <p:spTgt spid="2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0" dur="768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2" dur="768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77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775" dur="3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77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916360" y="609120"/>
            <a:ext cx="5999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ffff"/>
                </a:solidFill>
                <a:latin typeface="Arial"/>
              </a:rPr>
              <a:t>GESTION DE ETICA EN LOS NEGOCIO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1655640" cy="103176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1414440" y="1916280"/>
            <a:ext cx="5533920" cy="417168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3"/>
          <a:stretch/>
        </p:blipFill>
        <p:spPr>
          <a:xfrm>
            <a:off x="6084720" y="2708280"/>
            <a:ext cx="2916360" cy="260352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4"/>
          <a:stretch/>
        </p:blipFill>
        <p:spPr>
          <a:xfrm>
            <a:off x="939960" y="4292640"/>
            <a:ext cx="3055680" cy="20383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5"/>
          <a:stretch/>
        </p:blipFill>
        <p:spPr>
          <a:xfrm>
            <a:off x="179280" y="1996920"/>
            <a:ext cx="3087720" cy="19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1286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ffff"/>
                </a:solidFill>
                <a:latin typeface="Arial"/>
              </a:rPr>
              <a:t>ORGANIZACIONES MUNDIALES PROMOVIENDO LA MEJORA EN LA CALIDAD DE VIDA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2843280" y="1987560"/>
            <a:ext cx="4033800" cy="41054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2771640" y="1701720"/>
            <a:ext cx="1343160" cy="1943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1042920" y="3429000"/>
            <a:ext cx="2016360" cy="1800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6804000" y="1844640"/>
            <a:ext cx="1944720" cy="1381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11" name="" descr=""/>
          <p:cNvPicPr/>
          <p:nvPr/>
        </p:nvPicPr>
        <p:blipFill>
          <a:blip r:embed="rId5"/>
          <a:stretch/>
        </p:blipFill>
        <p:spPr>
          <a:xfrm>
            <a:off x="6669000" y="3502080"/>
            <a:ext cx="2367000" cy="1006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12" name="" descr=""/>
          <p:cNvPicPr/>
          <p:nvPr/>
        </p:nvPicPr>
        <p:blipFill>
          <a:blip r:embed="rId6"/>
          <a:stretch/>
        </p:blipFill>
        <p:spPr>
          <a:xfrm>
            <a:off x="5292720" y="4879800"/>
            <a:ext cx="1708200" cy="1644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13" name="" descr=""/>
          <p:cNvPicPr/>
          <p:nvPr/>
        </p:nvPicPr>
        <p:blipFill>
          <a:blip r:embed="rId7"/>
          <a:stretch/>
        </p:blipFill>
        <p:spPr>
          <a:xfrm>
            <a:off x="2124000" y="5122800"/>
            <a:ext cx="1339920" cy="1314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14" name="" descr=""/>
          <p:cNvPicPr/>
          <p:nvPr/>
        </p:nvPicPr>
        <p:blipFill>
          <a:blip r:embed="rId8"/>
          <a:stretch/>
        </p:blipFill>
        <p:spPr>
          <a:xfrm>
            <a:off x="324000" y="189000"/>
            <a:ext cx="1439640" cy="8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8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8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6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2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8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6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410920" y="609120"/>
            <a:ext cx="6504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00ffff"/>
                </a:solidFill>
                <a:latin typeface="Arial"/>
              </a:rPr>
              <a:t>CERTIFICADOS  DE CALIDAD…….</a:t>
            </a:r>
            <a:br>
              <a:rPr sz="4000"/>
            </a:br>
            <a:r>
              <a:rPr b="1" i="1" lang="es-MX" sz="3200" spc="-1" strike="noStrike">
                <a:solidFill>
                  <a:srgbClr val="ffff00"/>
                </a:solidFill>
                <a:latin typeface="Arial"/>
              </a:rPr>
              <a:t>¿QUE BUSCAMOS CERTIFICANDO LA CALIDAD?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39680" y="112680"/>
            <a:ext cx="1695600" cy="10573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5508720" y="2709720"/>
            <a:ext cx="2711520" cy="3456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24000" y="2565360"/>
            <a:ext cx="4968720" cy="3816360"/>
          </a:xfrm>
          <a:prstGeom prst="rect">
            <a:avLst/>
          </a:prstGeom>
          <a:solidFill>
            <a:srgbClr val="ccffcc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LA CALIDAD ES UN ARTE. ES 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GENTE, LA INFORMACION Y L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INSTALACIONES PERO, POR ENCIM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DE TODO ES UN PROCESO CREATIV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S EL ARTE QUE MEZCLA TO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STOS INGREDIENTES PARA CREA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UN POCO DE MAGIA. ES 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REATIVIDAD, EL COMPROMIS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Y LA PASION DE QUIENES CREE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N ELLA</a:t>
            </a:r>
            <a:r>
              <a:rPr b="0" lang="es-MX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452600" y="1844640"/>
          <a:ext cx="6288120" cy="396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2600" y="1844640"/>
                    <a:ext cx="6288120" cy="39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4500720" y="4869000"/>
            <a:ext cx="2447640" cy="1439640"/>
          </a:xfrm>
          <a:custGeom>
            <a:avLst/>
            <a:gdLst>
              <a:gd name="textAreaLeft" fmla="*/ 558720 w 2447640"/>
              <a:gd name="textAreaRight" fmla="*/ 1888920 w 2447640"/>
              <a:gd name="textAreaTop" fmla="*/ 328680 h 1439640"/>
              <a:gd name="textAreaBottom" fmla="*/ 111096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cc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Impact"/>
              </a:rPr>
              <a:t>CULTU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932360" y="2060640"/>
            <a:ext cx="2448000" cy="1439640"/>
          </a:xfrm>
          <a:custGeom>
            <a:avLst/>
            <a:gdLst>
              <a:gd name="textAreaLeft" fmla="*/ 558720 w 2448000"/>
              <a:gd name="textAreaRight" fmla="*/ 1889280 w 2448000"/>
              <a:gd name="textAreaTop" fmla="*/ 328680 h 1439640"/>
              <a:gd name="textAreaBottom" fmla="*/ 111096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cc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Impact"/>
              </a:rPr>
              <a:t>TECN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4360" y="2997360"/>
            <a:ext cx="3024000" cy="1728720"/>
          </a:xfrm>
          <a:custGeom>
            <a:avLst/>
            <a:gdLst>
              <a:gd name="textAreaLeft" fmla="*/ 690120 w 3024000"/>
              <a:gd name="textAreaRight" fmla="*/ 2333880 w 3024000"/>
              <a:gd name="textAreaTop" fmla="*/ 394560 h 1728720"/>
              <a:gd name="textAreaBottom" fmla="*/ 133416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cc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Impact"/>
              </a:rPr>
              <a:t>CLI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Impact"/>
              </a:rPr>
              <a:t>SATISFECH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89000"/>
            <a:ext cx="7057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s-MX" sz="3600" spc="-1" strike="noStrike">
                <a:solidFill>
                  <a:srgbClr val="ffff00"/>
                </a:solidFill>
                <a:latin typeface="Arial"/>
              </a:rPr>
              <a:t>CERTIFICAR LA CALIDAD</a:t>
            </a:r>
            <a:br>
              <a:rPr sz="3600"/>
            </a:br>
            <a:r>
              <a:rPr b="1" i="1" lang="es-MX" sz="3600" spc="-1" strike="noStrike">
                <a:solidFill>
                  <a:srgbClr val="ffff00"/>
                </a:solidFill>
                <a:latin typeface="Arial"/>
              </a:rPr>
              <a:t>SIGNIFICA……………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176040" y="115920"/>
            <a:ext cx="1443240" cy="9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971640" y="1484280"/>
            <a:ext cx="7273800" cy="4249800"/>
          </a:xfrm>
          <a:custGeom>
            <a:avLst/>
            <a:gdLst>
              <a:gd name="textAreaLeft" fmla="*/ 1660320 w 7273800"/>
              <a:gd name="textAreaRight" fmla="*/ 5613480 w 7273800"/>
              <a:gd name="textAreaTop" fmla="*/ 970200 h 4249800"/>
              <a:gd name="textAreaBottom" fmla="*/ 3279600 h 4249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cc"/>
          </a:solidFill>
          <a:ln w="76320">
            <a:solidFill>
              <a:srgbClr val="fa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95280" y="3862440"/>
          <a:ext cx="2158920" cy="215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3862440"/>
                    <a:ext cx="215892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179280" y="1008000"/>
          <a:ext cx="2952720" cy="234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1008000"/>
                    <a:ext cx="2952720" cy="23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3203640" y="4819680"/>
          <a:ext cx="2679480" cy="2038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3640" y="4819680"/>
                    <a:ext cx="2679480" cy="20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3564000" y="404640"/>
          <a:ext cx="2879640" cy="2111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64000" y="404640"/>
                    <a:ext cx="2879640" cy="21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4" name="" descr=""/>
          <p:cNvPicPr/>
          <p:nvPr/>
        </p:nvPicPr>
        <p:blipFill>
          <a:blip r:embed="rId9"/>
          <a:stretch/>
        </p:blipFill>
        <p:spPr>
          <a:xfrm>
            <a:off x="6227640" y="365040"/>
            <a:ext cx="2340000" cy="22003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1258920" y="1989000"/>
            <a:ext cx="7559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UN CERTIFICADO TIENE SENTIDO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6" name=""/>
          <p:cNvSpPr txBox="1"/>
          <p:nvPr/>
        </p:nvSpPr>
        <p:spPr>
          <a:xfrm rot="19959600">
            <a:off x="5958000" y="5444640"/>
            <a:ext cx="990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TRES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7" name=""/>
          <p:cNvSpPr txBox="1"/>
          <p:nvPr/>
        </p:nvSpPr>
        <p:spPr>
          <a:xfrm rot="1843200">
            <a:off x="5321160" y="417600"/>
            <a:ext cx="1128960" cy="69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ENSION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8" name=""/>
          <p:cNvSpPr txBox="1"/>
          <p:nvPr/>
        </p:nvSpPr>
        <p:spPr>
          <a:xfrm rot="20823000">
            <a:off x="324000" y="3125520"/>
            <a:ext cx="1619280" cy="60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AL GENIO</a:t>
            </a:r>
            <a:endParaRPr b="0" lang="en-US" sz="2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9" name=""/>
          <p:cNvSpPr txBox="1"/>
          <p:nvPr/>
        </p:nvSpPr>
        <p:spPr>
          <a:xfrm rot="20556600">
            <a:off x="1414080" y="5600880"/>
            <a:ext cx="1655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EPRESION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80" name=""/>
          <p:cNvSpPr txBox="1"/>
          <p:nvPr/>
        </p:nvSpPr>
        <p:spPr>
          <a:xfrm rot="2678400">
            <a:off x="6649560" y="3068640"/>
            <a:ext cx="231480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ffffff"/>
                  </a:solidFill>
                  <a:miter/>
                </a:ln>
                <a:noFill/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REOCUPACION</a:t>
            </a:r>
            <a:endParaRPr b="0" lang="en-US" sz="2000" spc="1" strike="noStrike">
              <a:ln w="12600">
                <a:solidFill>
                  <a:srgbClr val="ffffff"/>
                </a:solidFill>
                <a:miter/>
              </a:ln>
              <a:noFill/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627280" y="333360"/>
            <a:ext cx="90504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RABIA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2"/>
          <a:stretch/>
        </p:blipFill>
        <p:spPr>
          <a:xfrm>
            <a:off x="139680" y="44280"/>
            <a:ext cx="1479600" cy="9226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411280" y="2637000"/>
            <a:ext cx="4608720" cy="2087280"/>
          </a:xfrm>
          <a:prstGeom prst="rect">
            <a:avLst/>
          </a:pr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CUANDO EXPRESA NO SOL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UN SENTIMIENTO SINO UN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MANERA AUTENTICA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HACER LAS COSAS. UN ESTI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DE VI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6593040" y="4076640"/>
          <a:ext cx="3163680" cy="2016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593040" y="4076640"/>
                    <a:ext cx="3163680" cy="20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7" presetSubtype="4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39680" y="257040"/>
            <a:ext cx="1768320" cy="11019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2484360" y="549360"/>
            <a:ext cx="6659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00ffff"/>
                </a:solidFill>
                <a:latin typeface="Arial"/>
              </a:rPr>
              <a:t>CERTIFICADOS  DE CALIDAD…….</a:t>
            </a:r>
            <a:br>
              <a:rPr sz="4000"/>
            </a:br>
            <a:r>
              <a:rPr b="1" i="1" lang="es-MX" sz="3200" spc="-1" strike="noStrike">
                <a:solidFill>
                  <a:srgbClr val="ffff00"/>
                </a:solidFill>
                <a:latin typeface="Arial"/>
              </a:rPr>
              <a:t>¿OBLIGACION O CONVICCION</a:t>
            </a:r>
            <a:r>
              <a:rPr b="1" i="1" lang="es-MX" sz="3200" spc="-1" strike="noStrike">
                <a:solidFill>
                  <a:srgbClr val="00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71640" y="2133720"/>
            <a:ext cx="770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W. Edwards Deming:</a:t>
            </a:r>
            <a:br>
              <a:rPr sz="3200"/>
            </a:br>
            <a:r>
              <a:rPr b="1" lang="es-ES_tradnl" sz="3200" spc="-1" strike="noStrike">
                <a:solidFill>
                  <a:srgbClr val="00ffff"/>
                </a:solidFill>
                <a:latin typeface="Times New Roman"/>
              </a:rPr>
              <a:t>“No es suficiente que la dirección de una empresa se comprometa para toda la vida con la calidad y la productividad.  Debe saber a qué se compromete; es decir,  qué es lo que debe hacer. Estas obligaciones no pueden delegarse. El apoyo no basta. Se requiere acción”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77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5" dur="770" fill="hold"/>
                                        <p:tgtEl>
                                          <p:spTgt spid="1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7" dur="77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9" dur="77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-10836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ffcc"/>
                </a:solidFill>
                <a:latin typeface="Arial Black"/>
              </a:rPr>
              <a:t>CASI TODO LO QUE TRATA SOBRE LA CALIDAD SE REDUCE A NORMAS LARGAS Y PESADAS; MATEMATICA INTIMIDANTE E INCOMPRENSIBLE. GRAN CANTIDAD DE GRAFICOS; LENGUAJE ACADEMICO Y LA EVIDENTE SENSACIÓN DE IMPORTANCIA DE LOS AUTOR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TOM PE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2200320" cy="13716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0" y="333360"/>
            <a:ext cx="4572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OMOS LO QUE HACEMOS DÍA A DÍA. DE MODO QUE LA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XCELENCIA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NO ES UN ACTO, SINO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UN HÁBITO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3851280" y="2276640"/>
            <a:ext cx="496872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43000" y="2406600"/>
            <a:ext cx="7772400" cy="88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35280" y="765000"/>
            <a:ext cx="8359560" cy="4972320"/>
          </a:xfrm>
          <a:prstGeom prst="irregularSeal2">
            <a:avLst/>
          </a:prstGeom>
          <a:solidFill>
            <a:srgbClr val="ccecff"/>
          </a:solidFill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Comic Sans MS"/>
              </a:rPr>
              <a:t>ALGUNAS PERSO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Comic Sans MS"/>
              </a:rPr>
              <a:t>NUNCA CAMBIAN REALMENT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Comic Sans MS"/>
              </a:rPr>
              <a:t>SOLO MEJORAN LA FORM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Comic Sans MS"/>
              </a:rPr>
              <a:t>DE FINGIR QUE HAN CAMBI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0" y="235080"/>
          <a:ext cx="5800680" cy="662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5080"/>
                    <a:ext cx="5800680" cy="662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2181240" y="5229360"/>
            <a:ext cx="6638760" cy="1323720"/>
          </a:xfrm>
          <a:prstGeom prst="leftRightArrow">
            <a:avLst>
              <a:gd name="adj1" fmla="val 50000"/>
              <a:gd name="adj2" fmla="val 99840"/>
            </a:avLst>
          </a:prstGeom>
          <a:solidFill>
            <a:srgbClr val="ffff9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EL 70 POR CIENTO DE LAS PERSON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RENUNCIAN A SUS JEFES, NO A SUS TRABAJ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627280" y="404640"/>
            <a:ext cx="612468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UN CERTIFICADO DE CALIDAD DEB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54520" y="912960"/>
            <a:ext cx="503856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ORIGINAR UN CAMBIO EN LA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419640" y="1415880"/>
            <a:ext cx="537192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MANERA DE HACER LAS COS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34920" y="42840"/>
            <a:ext cx="1619280" cy="10098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6019920" y="1844640"/>
            <a:ext cx="3592440" cy="239544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 txBox="1"/>
          <p:nvPr/>
        </p:nvSpPr>
        <p:spPr>
          <a:xfrm>
            <a:off x="2646360" y="196920"/>
            <a:ext cx="60292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LA CALIDAD CERTIFICADA ES 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-2585880" y="2316240"/>
            <a:ext cx="7357680" cy="3200400"/>
            <a:chOff x="-2585880" y="2316240"/>
            <a:chExt cx="7357680" cy="3200400"/>
          </a:xfrm>
        </p:grpSpPr>
        <p:sp>
          <p:nvSpPr>
            <p:cNvPr id="210" name=""/>
            <p:cNvSpPr/>
            <p:nvPr/>
          </p:nvSpPr>
          <p:spPr>
            <a:xfrm>
              <a:off x="-2585880" y="3382920"/>
              <a:ext cx="183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1" name="" descr=""/>
            <p:cNvPicPr/>
            <p:nvPr/>
          </p:nvPicPr>
          <p:blipFill>
            <a:blip r:embed="rId2"/>
            <a:srcRect l="0" t="0" r="30379" b="0"/>
            <a:stretch/>
          </p:blipFill>
          <p:spPr>
            <a:xfrm>
              <a:off x="2260800" y="3078360"/>
              <a:ext cx="2511000" cy="17780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212" name=""/>
            <p:cNvGraphicFramePr/>
            <p:nvPr/>
          </p:nvGraphicFramePr>
          <p:xfrm>
            <a:off x="564120" y="2316240"/>
            <a:ext cx="2205360" cy="3200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64120" y="2316240"/>
                      <a:ext cx="2205360" cy="320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14" name=""/>
          <p:cNvSpPr/>
          <p:nvPr/>
        </p:nvSpPr>
        <p:spPr>
          <a:xfrm>
            <a:off x="2266920" y="2781360"/>
            <a:ext cx="3168720" cy="2735280"/>
          </a:xfrm>
          <a:custGeom>
            <a:avLst/>
            <a:gdLst>
              <a:gd name="textAreaLeft" fmla="*/ 723240 w 3168720"/>
              <a:gd name="textAreaRight" fmla="*/ 2445480 w 3168720"/>
              <a:gd name="textAreaTop" fmla="*/ 624240 h 2735280"/>
              <a:gd name="textAreaBottom" fmla="*/ 2111040 h 273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 Black"/>
              </a:rPr>
              <a:t>USTED </a:t>
            </a:r>
            <a:r>
              <a:rPr b="1" lang="es-MX" sz="1600" spc="-1" strike="noStrike">
                <a:solidFill>
                  <a:srgbClr val="000000"/>
                </a:solidFill>
                <a:latin typeface="Arial Black"/>
              </a:rPr>
              <a:t>DEB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 Black"/>
              </a:rPr>
              <a:t>COOPERAR EN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 Black"/>
              </a:rPr>
              <a:t>LUGAR 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 Black"/>
              </a:rPr>
              <a:t>COMPETI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435640" y="3573360"/>
            <a:ext cx="3456000" cy="2448000"/>
          </a:xfrm>
          <a:custGeom>
            <a:avLst/>
            <a:gdLst>
              <a:gd name="textAreaLeft" fmla="*/ 788760 w 3456000"/>
              <a:gd name="textAreaRight" fmla="*/ 2667240 w 3456000"/>
              <a:gd name="textAreaTop" fmla="*/ 558720 h 2448000"/>
              <a:gd name="textAreaBottom" fmla="*/ 188928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Black"/>
              </a:rPr>
              <a:t>EL EGOISM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Black"/>
              </a:rPr>
              <a:t>Y EL SABOTAJ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Black"/>
              </a:rPr>
              <a:t>MATAN  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Black"/>
              </a:rPr>
              <a:t>TRABAJO E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Black"/>
              </a:rPr>
              <a:t>EQUIP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5"/>
          <a:stretch/>
        </p:blipFill>
        <p:spPr>
          <a:xfrm>
            <a:off x="108000" y="115920"/>
            <a:ext cx="1584360" cy="9874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2916360" y="0"/>
            <a:ext cx="547344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TRABAJO DE EQUIPO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6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4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4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4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4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8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8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616720" y="260280"/>
            <a:ext cx="3132000" cy="3240000"/>
          </a:xfrm>
          <a:prstGeom prst="cloudCallout">
            <a:avLst>
              <a:gd name="adj1" fmla="val -83351"/>
              <a:gd name="adj2" fmla="val 48921"/>
            </a:avLst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24000" y="1330200"/>
            <a:ext cx="41749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ffff"/>
                </a:solidFill>
                <a:latin typeface="Arial Black"/>
              </a:rPr>
              <a:t>“</a:t>
            </a:r>
            <a:r>
              <a:rPr b="1" lang="es-ES" sz="2000" spc="-1" strike="noStrike">
                <a:solidFill>
                  <a:srgbClr val="00ffff"/>
                </a:solidFill>
                <a:latin typeface="Arial Black"/>
              </a:rPr>
              <a:t>LA MAYOR OPORTUNIDAD QUE USTED TIENE PARA INCREMENTAR LOS RESULTADOS FINANCIEROS PROVIENE DE PERFECCIONAR SUS PROCESOS DE LA EMPRESA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08000" y="95400"/>
            <a:ext cx="1535040" cy="957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2" name=""/>
          <p:cNvGraphicFramePr/>
          <p:nvPr/>
        </p:nvGraphicFramePr>
        <p:xfrm>
          <a:off x="2700360" y="3068640"/>
          <a:ext cx="6192720" cy="367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0360" y="3068640"/>
                    <a:ext cx="6192720" cy="36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5560920" y="549360"/>
          <a:ext cx="3259080" cy="2171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60920" y="549360"/>
                    <a:ext cx="3259080" cy="21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9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9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9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9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3T13:50:45Z</dcterms:created>
  <dc:creator> Carlos Romero</dc:creator>
  <dc:description/>
  <dc:language>en-US</dc:language>
  <cp:lastModifiedBy> Carlos Romero</cp:lastModifiedBy>
  <dcterms:modified xsi:type="dcterms:W3CDTF">2005-05-24T20:44:57Z</dcterms:modified>
  <cp:revision>53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455183082</vt:lpwstr>
  </property>
</Properties>
</file>